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0DC-15B3-486B-AA4C-F8C052BA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DCB-18E5-479A-90B8-20C63233A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294-D8B9-4A6F-8BC2-BD721AAED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ECC-228C-427A-85AE-CB39357D4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ED42-C2D9-4459-8A23-078E37C72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809-60BE-400C-A443-F7AD7D4C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EFFB-A74E-46D2-B461-A56A4C17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228600" y="4114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C7E-A568-41B7-8166-8A5DB920C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924-B0CA-4CE6-A5E1-E3C4A8DB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9ABB-84A5-48F3-A71C-8840FAF1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04920" y="419076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2AD2-FC47-4E69-8C29-53CCBA3A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CAAE-0B9E-4865-9DF3-BBAA9D1C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FC37-A240-40FA-B79F-A481A3583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73A-B05C-449B-A963-6762F1D3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52280" y="4267080"/>
            <a:ext cx="6553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A9E-D8FE-4B80-8F78-585857F64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DF5-A726-4AC5-BB64-583043EBA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16F-4E70-466D-AFE5-849F2ADB9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28600" y="4190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D7C7-8E8D-4282-BCC8-05B922251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28600" y="4191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1216-7003-4B94-8475-3E8CD2C8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80880" y="42670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B515-A628-458F-9F34-3D3C8B21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4D9-6D11-4FD1-8030-DF74EDD8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1E1-DACC-4365-BE91-3A9650EA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319D-6664-432E-878E-A170469C1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1BF9-74AF-4DB4-BB1A-1417D7C8E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82B1-BF7D-48A9-92AC-08120AFB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7571-57A1-403E-BD2D-F8E0347C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739-E24B-4738-B004-EB3F26C6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38C-16C0-4FEB-93F7-12B3FD63E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2F83-C2D4-4CEE-914E-669CA644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C26D-A9B0-4C3E-87FA-7C74D044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BD3-2F8A-40EC-8EEF-E67189178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1B2D-363F-4245-875A-C11B9B7B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BC1-21DB-4426-95C8-E5CBC8AC9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97DC-C9E4-4331-B3F3-809710F6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9310-045D-4789-B7B2-A2473F2A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52280" y="419076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E45-DBC5-4512-8DFB-C92AEDA94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AFC-90A9-4C2F-9242-6865A715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152280" y="41144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6E5C-44C9-4E17-9DEB-6FCDA35DE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52280" y="4114800"/>
            <a:ext cx="6553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5814-3198-4403-B28D-99B0A5B78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1D8-6BB0-44C0-96B7-08B4A27F3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5471-DC66-4509-A380-7AF7F27A4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F94-88D2-4443-BE41-84162F44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6840" y="4343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0DE-488C-4762-92AE-93F2287F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D8C-5011-40B5-BE63-CF6CA6B0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C03-8375-428C-B1E2-0C661C35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CB6-83A3-4D44-95CE-4921AEAD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593F-C2B6-4D44-8AF5-052A6FAF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329-DD46-4FCA-B82C-5F45EC62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A2F-A969-4698-B8DC-1F5EDE31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60DB-13D8-4683-B574-2E1E301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BE6-3F0E-4D8E-8E29-7BF560D1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E13-0207-4690-B001-9AC612C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799-04B1-4A5D-ADC0-E8900E5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3B7-9348-4A40-BDBE-E1F3E5AA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EDD-6F1C-445E-AAC6-634EC3F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0FE4-13AF-4342-AB50-14D7EFF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4914-4075-4C97-AA9E-BAF657B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985A-E3DC-4F97-AB6D-4A373329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9CF3-2E7D-46AC-AC17-E930CE3E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198-0D3B-44F8-AEA1-7ABE56BC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398-D9AE-4863-8391-A4166F47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651-B240-43EC-B6DC-EBD77BAF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4DA-52D1-4057-B2FC-139424AE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070-1C82-4A73-99A3-05A53E5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6DB-329C-40A5-99F5-AE9D62E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0CB-B5AB-407F-8063-D57E3B8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2C7-B9F3-452E-B4DA-6E1B7E9CE61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3E9B-9169-41D9-9D09-156B94A17F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71704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anguage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loves Jo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loves Sus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an Joe lo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love yo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anis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you lov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glish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green tre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anish: the tree gre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gmat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276360"/>
            <a:ext cx="84582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mmunicative and social uses of spee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door sh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milk in the fridg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your room clea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linguistic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borns distinguish the sound of human v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- 8 week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o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- 6 month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ession of cooing and babbling follow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iversal patte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ies, until around 6 months old, can produce sounds/phonemes that their parents cannot produce or distingu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/Biology plays an important role in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erg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ooing &amp; babb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 of the child’s vocalization is also affected by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nguistic environ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months       firs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2 years     200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 6 years     15,000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ophr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 word that seems to represent an entire sente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ant peo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s that 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s that can be acted up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liar ac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 before verb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t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ppropriate limits of the meaning of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 Components of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honolo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man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s of wo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ments of words into sent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agmatic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uses of spe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a word too narrow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a word too broad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rors of segment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one word end and another begi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st-mapping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the context to guess the meaning of a w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phological Develo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 morphe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s to form plural nou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ed to form past ten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s to form 3rd person singul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ction of verb “to be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regular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2057400"/>
          <a:ext cx="8188200" cy="41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1882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ctic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legraphic spee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 out the smaller and less important words, like articles and pre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y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ly ch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mmy 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e cook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is really gramma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Explo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guage explosion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the result of simple semantic development; the chil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st adding more words to his/her vocabul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is mastering basic syntactic and morphological ru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0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/no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doggi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- ques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...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s/No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52640"/>
            <a:ext cx="769608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my 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l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mommy 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 pl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my did go, didn’t sh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870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ddy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mmy do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addy is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 did yesterd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addy eat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honeme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he smallest units of sound that can change the meaning of a wor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d/ “dog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l/ “log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696080" cy="25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I g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not drink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not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181800" indent="-181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don’t drink mil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765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Language Acqui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IST (e.g., Skinne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condit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t condit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do not usually provide feedback for grammatically incorrect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o provide feedback for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uth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senten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no like spin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s, I k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m slee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, you’re awa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s seem to provide subtle feedback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ggie runned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es, the doggie ran a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hen parents provide feedback, it doesn’t work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body don’t like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, say “nobod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esn’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ike m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body don’t like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en carefully, “nobody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esn’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ike me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oh, nobody don’t like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can only imitate phrases that they can already produ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produce grammatically correct sentences that are unique and that they could have never heard anybody before sa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make systematic  mistakes in their early languag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go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gie runned a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407520"/>
            <a:ext cx="6870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m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 systematic mistakes reflect their rule-following behavio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’s mastery of the different sounds of their languag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a mechanical sk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stery of different sounds, or phonemes, develops along with the child’s grow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derstanding of the meanings of wo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407880"/>
            <a:ext cx="68706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VIST (Chomsk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8720" y="2198160"/>
            <a:ext cx="7267680" cy="32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ans are biologically predisposed to acquire languag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apacity to comprehend and produce language is innat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Acquisition Devic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A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ologically based system, programmed to recognize the universal rules that underlie any language the child might h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contains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versal gramm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V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 recognize the rules that underlie language is inn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linguistic environment dictates which particular language a child will spea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cific language is NOT genetically transmit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70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 for Nativist The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s acquired rapidl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s acquired with little explicit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around the world reach language milestones at around same 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tive period for language acqui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95120"/>
            <a:ext cx="6870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69608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v/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b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ee/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e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i/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i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2960" y="1047600"/>
            <a:ext cx="6553080" cy="1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ology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y of the meanings of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pholog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arrangement of words into sent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a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use of grammatical mark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units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p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75040"/>
            <a:ext cx="769608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a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speak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l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8:49:39Z</dcterms:created>
  <dc:creator>Cecilia Wainryb</dc:creator>
  <dc:description/>
  <dc:language>en-US</dc:language>
  <cp:lastModifiedBy>College of Education</cp:lastModifiedBy>
  <dcterms:modified xsi:type="dcterms:W3CDTF">2006-07-06T16:17:31Z</dcterms:modified>
  <cp:revision>38</cp:revision>
  <dc:subject>Psych 3220 (2004)</dc:subject>
  <dc:title>Language Development</dc:title>
</cp:coreProperties>
</file>